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8557-F0E8-4600-8A9F-7902F6F06A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Kingdom Protista</a:t>
            </a:r>
            <a:br>
              <a:rPr sz="1200"/>
            </a:b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The Catchall Kingdom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dom Protist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tchall King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Phae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Brown 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arin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eaweed and kelp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ooler areas of ocean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Fucoxanthin pigment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tore food as laminarin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ALL multicellular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temlike stip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Leaflike region called blad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Phae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w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aweed and kel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ler areas of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coxanthin pi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 food as laminar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multicell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mlike st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flike region called bl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Rhod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Red algae but colors vary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arine seawee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maller than brown algae and live in deeper water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cobilins – pigment for absorbing light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ome coated with polysaccharide carageenan – cosmetics, gel capsules, cheese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Agar – extracted from cell walls of red 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Rhod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algae but colors 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ine seaw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aller than brown algae and live in deeper wa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cobilins – pigment for absorbing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coated with polysaccharide carageenan – cosmetics, gel capsules, che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ar – extracted from cell walls of red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Phylum Bacillari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Diatom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Shells fit together like a box with a lid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Centric and pennat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Main component of phytoplankton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Diatomaceous earth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um Bacillari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s fit together like a box with a 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c and pen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component of phytoplank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aceous ea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Dinoflagella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Dinoflagellate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mall, unicellular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ost photosynthetic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ome bioluminescent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Red tide a problem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Dinoflagell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noflagel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all, unicell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photosynth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biolumines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tide a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Chrys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Golden 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ost fresh water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Form cyst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2 flagell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arotenoids give color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Important for formation of petroleum deposit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Chrys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lde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fresh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 cy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flag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otenoids give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portant for formation of petroleum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Phylum Euglen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Euglenoi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Plant-like and animal-like characteristic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Many have cholorphyll and are photosynthetic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No cell wall, motil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Most live in fresh water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See picture on page 533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um Euglen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glen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-like and animal-like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have cholorphyll and are photosynth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ell wall, mo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live in fresh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picture on page 5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Fungus-like protist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lime molds: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acrasiomyco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ellular slime mol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Amoeboid movement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Myxomyco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lasmodial slime mol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ass of plasmodium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Water mol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Oomyco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Blight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Chytridiomyco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hytri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Zoospores with one flagellum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aybe fungi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ngus-like prot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lime mol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acrasiomyco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ular slime m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oeboid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Myxomyco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smodial slime m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ss of plasm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 m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Oomyco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Chytridiomyco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ytr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oospores with one flagel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ybe fung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lime mol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lime m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Water mol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 m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Characteristics of 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Autotrophic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Not plants – why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Often contain pyrenoi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tro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plants –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contain pyren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hytri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ytr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The END….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ND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tructure of 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Thallus or body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Unicellular or multicellular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olonial:  Volvoz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Filamentous:  Spirogyr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ulticellular:  Ulv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Asexual and sexual reproduction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e of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llus or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cellular or multicell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nial:  Volvo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amentous:  Spirogy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lticellular:  Ul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exual and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Chlor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Phae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Rhod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Bacillari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Dinoflagella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Chrys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a Eugleno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Chlor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Phae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Rhod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Bacillari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Dinoflagell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Chrys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a Eugleno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Chlor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Look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familiar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Chlor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o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mili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Continued…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Green 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Many different form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Gave rise to land plants – why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Choroplasts that contain a and b cholorphyll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Have carotenoi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Cell walls of cellulos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different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rise to land plants –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oplasts that contain a and b cholorphy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caroten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s of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Ulv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l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olonial Chlor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nial Chlor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D289-8223-4FC5-8A63-D6FA0BA1A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533C-5DF1-46AC-8CBF-0A0687E2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6D01-F867-44DE-B97E-CE0B49165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2732-1508-4594-9A12-D2271C6A8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748B6-827F-4E3B-85DE-7221736DD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CB581-0E16-4DEC-AB2C-10329D9C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EB29-7A36-44DA-BFF7-029D4617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6360-0D69-481D-AD77-FC19E1D5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BD90-5F38-41A6-8550-E045B5AF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45BB-CFA5-40ED-9CFC-173869F8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9692D-2596-4DAE-82AF-2812F1D0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FF89-EF46-4855-9F2C-7386EB7A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F6B8-3778-485A-81F0-CE4DBE59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2428-D654-4535-BEAD-E869E413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D5B3-37D1-4A55-8380-9C4E194A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5768-4207-4697-BAA3-FCA04E2B1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8FA3-94CC-4F94-B368-39C25F43F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765A6-5812-4E6F-B7E1-4434EFD9D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90B79-6101-4525-84B2-BFEE0B4F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3A9BF-3783-4CD3-B991-C4FAAC11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BA29B-8C94-4059-8D06-0C14F383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40EA6-5636-40B2-A9AE-EFFCF7BE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8814-B17A-4892-8CDD-3434AD15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F97BC-D85C-4A50-BDAE-40171D0B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A0A6A-7AAD-4449-A76E-EE10A26D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DF6FB-6B20-48BC-9537-65E6E9B4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E28F4-CF57-415A-8332-E7A3350C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99602-7EF1-490C-B17A-42364952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0F77E-8C1C-4473-AC37-F8B3BA6A2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0C769-197F-49B5-A043-C437FCC2C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CB8D2-67E2-40CF-837E-271F91CB3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1A8EE-B6AC-46D5-B0AF-98E5CB39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61592-D547-455B-B3A2-B5936AAB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8B42-D15B-47A6-A067-3F46D0F1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D04CA-C79F-47BA-BF3B-2C66DCB3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8F8C9-2AC4-44F8-9826-3D4EFFC5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7E464-39AF-411E-9AF1-C9ADDBCA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8D14E-2143-4A1F-89EE-76276D66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A6652-2F88-4C24-A470-635622A6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584F8-4E70-4319-B8A8-18F502EB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94B45-A5F6-4404-936F-516646FD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6A864-3F73-4D25-A98D-9453C4C69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8A8C3-D22D-4418-8962-B8F21B9BC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A8BB-90B4-436E-BEA4-80612748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E67D-1B53-47D9-9A75-6A0FFE7A6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2D6E-FC36-4C8E-93B2-4436669E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74A5-F837-404D-89BB-E2D7A407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D4AB-6818-4A02-BA97-A9499B7E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CD74-2BBF-4EB9-B377-A50DB2A13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954D-28A1-48CC-8F1A-9D7AD5DB1AF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3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4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5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6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7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8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9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0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1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2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3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5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6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7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9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0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1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3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4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5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6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7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8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9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80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81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82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2F88-84BE-4F7E-B62A-8AFC838D8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6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6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9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E0CA-0710-4858-A4DE-72B7058745B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ingdom Protista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Catchall Kingdo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Phae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own alga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aweed and kel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oler areas of oce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coxanthin pig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ore food as laminar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multicell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mlike sti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flike region called bl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5" descr="laminaria"/>
          <p:cNvPicPr/>
          <p:nvPr/>
        </p:nvPicPr>
        <p:blipFill>
          <a:blip r:embed="rId1"/>
          <a:stretch/>
        </p:blipFill>
        <p:spPr>
          <a:xfrm>
            <a:off x="1143000" y="228600"/>
            <a:ext cx="6781680" cy="64008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Rhod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 algae but colors v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ine seawee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maller than brown algae and live in deeper wa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cobilins – pigment for absorbing lig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oated with polysaccharide carageenan – cosmetics, gel capsules, chee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gar – extracted from cell walls of red alga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Rhodophyta"/>
          <p:cNvPicPr/>
          <p:nvPr/>
        </p:nvPicPr>
        <p:blipFill>
          <a:blip r:embed="rId1"/>
          <a:stretch/>
        </p:blipFill>
        <p:spPr>
          <a:xfrm>
            <a:off x="1143000" y="838080"/>
            <a:ext cx="6400800" cy="52578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5" descr="rhodophyta7"/>
          <p:cNvPicPr/>
          <p:nvPr/>
        </p:nvPicPr>
        <p:blipFill>
          <a:blip r:embed="rId1"/>
          <a:stretch/>
        </p:blipFill>
        <p:spPr>
          <a:xfrm>
            <a:off x="2057400" y="609480"/>
            <a:ext cx="4952880" cy="59436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Bacillari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at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ells fit together like a box with a l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ntric and penn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in component of phytoplankt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atomaceous eart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5" descr="Diatoms2"/>
          <p:cNvPicPr/>
          <p:nvPr/>
        </p:nvPicPr>
        <p:blipFill>
          <a:blip r:embed="rId1"/>
          <a:stretch/>
        </p:blipFill>
        <p:spPr>
          <a:xfrm>
            <a:off x="304920" y="7621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Dinoflagella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noflagell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mall, unicellu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photosynthe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bioluminesc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 tide a prob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5" descr="noctiluca"/>
          <p:cNvPicPr/>
          <p:nvPr/>
        </p:nvPicPr>
        <p:blipFill>
          <a:blip r:embed="rId1"/>
          <a:stretch/>
        </p:blipFill>
        <p:spPr>
          <a:xfrm>
            <a:off x="990720" y="609480"/>
            <a:ext cx="6933960" cy="49532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" descr="noctiluca"/>
          <p:cNvPicPr/>
          <p:nvPr/>
        </p:nvPicPr>
        <p:blipFill>
          <a:blip r:embed="rId1"/>
          <a:stretch/>
        </p:blipFill>
        <p:spPr>
          <a:xfrm>
            <a:off x="457200" y="60948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Alga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Chrys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lden alga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fresh 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 cy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flagel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rotenoids give col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ortant for formation of petroleum depos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5" descr="BRIE014P"/>
          <p:cNvPicPr/>
          <p:nvPr/>
        </p:nvPicPr>
        <p:blipFill>
          <a:blip r:embed="rId1"/>
          <a:stretch/>
        </p:blipFill>
        <p:spPr>
          <a:xfrm>
            <a:off x="685800" y="914400"/>
            <a:ext cx="7162920" cy="51055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5" descr="navic1"/>
          <p:cNvPicPr/>
          <p:nvPr/>
        </p:nvPicPr>
        <p:blipFill>
          <a:blip r:embed="rId1"/>
          <a:stretch/>
        </p:blipFill>
        <p:spPr>
          <a:xfrm>
            <a:off x="609480" y="457200"/>
            <a:ext cx="7162920" cy="57913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7" descr="Mallomonadales"/>
          <p:cNvPicPr/>
          <p:nvPr/>
        </p:nvPicPr>
        <p:blipFill>
          <a:blip r:embed="rId1"/>
          <a:stretch/>
        </p:blipFill>
        <p:spPr>
          <a:xfrm>
            <a:off x="1219320" y="609480"/>
            <a:ext cx="6629400" cy="53341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Euglen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ugleno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nt-like and animal-like characteris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have cholorphyll and are photosynthe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ell wall, mot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live in fresh 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e picture on page 53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5" descr="Euglena_2"/>
          <p:cNvPicPr/>
          <p:nvPr/>
        </p:nvPicPr>
        <p:blipFill>
          <a:blip r:embed="rId1"/>
          <a:stretch/>
        </p:blipFill>
        <p:spPr>
          <a:xfrm>
            <a:off x="609480" y="609480"/>
            <a:ext cx="7162920" cy="5562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5" descr="euglena"/>
          <p:cNvPicPr/>
          <p:nvPr/>
        </p:nvPicPr>
        <p:blipFill>
          <a:blip r:embed="rId1"/>
          <a:stretch/>
        </p:blipFill>
        <p:spPr>
          <a:xfrm>
            <a:off x="304920" y="457200"/>
            <a:ext cx="7315200" cy="57913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gus-like protis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lime mold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lum acrasiomyco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llular slime mol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moeboid mov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lum Myxomyco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smodial slime mol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ss of plasmodi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ter mol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lum Oomyco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lum Chytridiomyco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ytri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oospores with one flagell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ybe fung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0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lime mold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5" descr="raspberry%20slime"/>
          <p:cNvPicPr/>
          <p:nvPr/>
        </p:nvPicPr>
        <p:blipFill>
          <a:blip r:embed="rId1"/>
          <a:stretch/>
        </p:blipFill>
        <p:spPr>
          <a:xfrm>
            <a:off x="1143000" y="1438200"/>
            <a:ext cx="7229520" cy="54198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ter mold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5" descr="Lofng65"/>
          <p:cNvPicPr/>
          <p:nvPr/>
        </p:nvPicPr>
        <p:blipFill>
          <a:blip r:embed="rId1"/>
          <a:stretch/>
        </p:blipFill>
        <p:spPr>
          <a:xfrm>
            <a:off x="914400" y="1905120"/>
            <a:ext cx="7010280" cy="41907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0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aracteristics of Alga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utotroph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t plants – why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ften contain pyrenoi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ytrid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5" descr="08025$"/>
          <p:cNvPicPr/>
          <p:nvPr/>
        </p:nvPicPr>
        <p:blipFill>
          <a:blip r:embed="rId1"/>
          <a:stretch/>
        </p:blipFill>
        <p:spPr>
          <a:xfrm>
            <a:off x="609480" y="1600200"/>
            <a:ext cx="6934320" cy="41911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0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END…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ructure of Alga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llus or b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cellular or multicellu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lonial:  Volvo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lamentous:  Spirogy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cellular:  Ul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exual and sexual repro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um Chlorophy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um Phaeophy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um Rhodophy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um Bacillariophy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um Dinoflagell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um Chrysophy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a Euglenohy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Chlor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o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milia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ChlamydomonasEMLab"/>
          <p:cNvPicPr/>
          <p:nvPr/>
        </p:nvPicPr>
        <p:blipFill>
          <a:blip r:embed="rId1"/>
          <a:stretch/>
        </p:blipFill>
        <p:spPr>
          <a:xfrm>
            <a:off x="2743200" y="1447920"/>
            <a:ext cx="5334120" cy="54100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1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inued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een alga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different for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ave rise to land plants – wh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roplasts that contain a and b cholorphy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 caroteno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ll walls of cellulo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5" descr="Ulva_lactuca_01_06_18_A_600x550"/>
          <p:cNvPicPr/>
          <p:nvPr/>
        </p:nvPicPr>
        <p:blipFill>
          <a:blip r:embed="rId1"/>
          <a:stretch/>
        </p:blipFill>
        <p:spPr>
          <a:xfrm>
            <a:off x="1714680" y="809640"/>
            <a:ext cx="5715000" cy="523872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lv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8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lonial Chlor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5" descr="BRIE028P"/>
          <p:cNvPicPr/>
          <p:nvPr/>
        </p:nvPicPr>
        <p:blipFill>
          <a:blip r:embed="rId1"/>
          <a:stretch/>
        </p:blipFill>
        <p:spPr>
          <a:xfrm>
            <a:off x="1447920" y="18288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8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7T11:20:49Z</dcterms:created>
  <dc:creator>teacher</dc:creator>
  <dc:description>Kingdom Protista </dc:description>
  <cp:keywords>Kingdom Protista </cp:keywords>
  <dc:language>en-US</dc:language>
  <cp:lastModifiedBy>RomaK</cp:lastModifiedBy>
  <dcterms:modified xsi:type="dcterms:W3CDTF">2015-09-04T10:52:38Z</dcterms:modified>
  <cp:revision>9</cp:revision>
  <dc:subject/>
  <dc:title>Kingdom Protista </dc:title>
</cp:coreProperties>
</file>